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D6E-5A9B-4C0C-921E-55D3A07B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82756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327920"/>
            <a:ext cx="82756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364-EB85-4DFC-B71A-FE02E16C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32792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32792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AF5-3764-4F88-B948-A680E67A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7920" y="197964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840" y="197964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32792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7920" y="432792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840" y="432792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591-537D-474D-957A-1E43A2B9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7AEE-7876-49E7-9A8D-2066D3D0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00000" y="1979640"/>
            <a:ext cx="8275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D804-D4E6-497E-8528-11900AF6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8275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D628-128A-4819-9FAC-E6DF355A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19F8-9594-479E-A5D1-BB40625F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49A1-EEE6-48BD-83B9-3726E0A4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00000" y="720360"/>
            <a:ext cx="827568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FED8-C434-4468-AE1C-EEC93345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00000" y="432792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30A5-353B-47C5-BF19-9D81E386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1979640"/>
            <a:ext cx="8275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495E-1E20-4304-AFF8-34DA2A54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32792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9F53-AA16-44AE-BF56-E3ADFBD2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0000" y="4327920"/>
            <a:ext cx="82756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1A5B-F041-4524-861B-9E901E09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82756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00000" y="4327920"/>
            <a:ext cx="82756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83DD-DB69-475C-9EF5-9D68D50E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432792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32792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03C7-7CEA-4816-BC17-4F5390DE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7920" y="197964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840" y="197964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00000" y="432792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7920" y="432792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840" y="432792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6468-5E7D-4B3D-8443-8238F968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88DD3-CC90-475D-B014-DBFBF595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00000" y="1979640"/>
            <a:ext cx="8275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2CDA5-09F9-416C-A68D-BBA5415D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8275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09E99-4D83-4CAD-B517-F4660AF5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6D9FA-2152-44F6-A678-28D18B2F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A217-09D2-4325-A4B3-EA5F164D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8275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C32-2608-439A-9641-A930AF38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00000" y="720360"/>
            <a:ext cx="827568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71434-835A-4B88-9628-41A761AC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00000" y="432792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BB3C8-597D-43C6-9A2B-57EF6B21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0800" y="432792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29B3A-F063-42CF-8406-6994E656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00000" y="4327920"/>
            <a:ext cx="82756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79719-6128-40DE-BDA6-E126EE81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82756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00000" y="4327920"/>
            <a:ext cx="82756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0B402-19A2-4EA4-85EA-122A70FA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00000" y="432792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0800" y="432792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F993A-C931-4B18-B89B-D07E7044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97920" y="197964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5840" y="197964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00000" y="432792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97920" y="432792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5840" y="432792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C471F-3B3A-4F72-A6E2-615B9849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D3C32-FBAE-44E2-91F9-E09DEB0B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00000" y="1979640"/>
            <a:ext cx="8275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C9C00-9ED2-4B8F-A6FC-E049699C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8275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16AE7-8DD2-43CC-8353-AB90025B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D04-64BB-4B79-9FCD-8C696D2B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E8CE4-B21D-477E-9CF0-FD3415B1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E702B-1216-44B4-8214-9FF643E3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00000" y="720360"/>
            <a:ext cx="827568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97F8C-187A-45B4-8B4A-C5A4129B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00000" y="432792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9CAD9-3091-4F1D-92D8-EABA0C57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0800" y="432792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C8D4C-D6E8-4AA5-ACEB-40DECDC2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00000" y="4327920"/>
            <a:ext cx="82756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9748F-23B4-413A-93FF-7FA2F02F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82756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00000" y="4327920"/>
            <a:ext cx="82756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C5C9D-B7B7-42E7-9614-A7A1E701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32792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0800" y="432792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DF266-DDF3-41C7-822D-671D7B1C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97920" y="197964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95840" y="197964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00000" y="432792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97920" y="432792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95840" y="4327920"/>
            <a:ext cx="2664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22E67-B2C7-4106-96F7-F4E27D5D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C0B-00B3-41BA-95F5-06CA3CA8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720360"/>
            <a:ext cx="827568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2A2-7606-446B-A5A4-A32D66F7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32792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9BA-9A23-4372-B838-9A59BC96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32792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69D-BBF8-4B2D-B84E-2BCEB36E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1979640"/>
            <a:ext cx="40384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327920"/>
            <a:ext cx="82756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40F-C4BB-4C67-B7B6-58329D79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D3E5F-8EE4-4873-86CF-1444BCB095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6670800"/>
            <a:ext cx="234144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670800"/>
            <a:ext cx="318924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670800"/>
            <a:ext cx="234180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5294B-83A9-4438-BEA3-A3A8DF030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1388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9280" y="1767960"/>
            <a:ext cx="88138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39640" y="6996240"/>
            <a:ext cx="233208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71840" y="6996240"/>
            <a:ext cx="31752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7440" y="6996240"/>
            <a:ext cx="233208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72DF6-C018-4382-95EE-D0CB5EB321C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0000" y="1979640"/>
            <a:ext cx="8275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B6710-0140-4F84-AFD4-89226A013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therainforestaworldbiome.weebly.com/food-chain.html" TargetMode="External"/><Relationship Id="rId3" Type="http://schemas.openxmlformats.org/officeDocument/2006/relationships/hyperlink" Target="http://www.enchantedlearning.com/biomes/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914400" y="68580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3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The Rainforest Biome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600200" y="4343400"/>
            <a:ext cx="662940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By:Adajja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54120"/>
            <a:ext cx="7315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95320" y="2541600"/>
            <a:ext cx="6191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therainforestaworldbiome.weebly.com/food-chai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828800"/>
            <a:ext cx="7715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re's an example of the Amazon rainforests food cha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62040" y="3660840"/>
            <a:ext cx="5354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enchantedlearning.com/biom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1600200" y="3886200"/>
            <a:ext cx="60958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254160"/>
            <a:ext cx="891540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7840" y="2174760"/>
            <a:ext cx="990288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lets talk about the rainforest. The rainforest contains very very interesting plants,birds and spices. My favorite is the Black Spider Monkey or in scientific word Ateles paniscus (AT-el-eez-pan-ISS-c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57040"/>
            <a:ext cx="914400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000080"/>
                    </a:gs>
                    <a:gs pos="100000">
                      <a:srgbClr val="800000"/>
                    </a:gs>
                  </a:gsLst>
                  <a:lin ang="3600000"/>
                </a:gradFill>
                <a:latin typeface="Arial Black"/>
              </a:rPr>
              <a:t>Lets talk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50000">
                    <a:srgbClr val="000080"/>
                  </a:gs>
                  <a:gs pos="100000">
                    <a:srgbClr val="800000"/>
                  </a:gs>
                </a:gsLst>
                <a:lin ang="36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662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03280" y="1812600"/>
            <a:ext cx="9066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's a biome you may ask. Well a biome is a home pretty much but just f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457200"/>
            <a:ext cx="914400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's a biom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now time to talk about the layers of Tropical Rain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99640" y="2025720"/>
            <a:ext cx="8280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ergent: giant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opy: the upper part of a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5257800"/>
            <a:ext cx="70772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understory: a dark and co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vironment an great place for an animal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ol o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1143000"/>
            <a:ext cx="80694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forest floor a place for small insects and l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awlers {after will I make up stuff}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10080720" cy="6873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600200" y="228600"/>
            <a:ext cx="6095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Behold the layers of the rainforest!!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257040"/>
            <a:ext cx="8458200" cy="3629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Please listen to your speaker thank you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685800"/>
            <a:ext cx="83883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limate of the tropical rainforest is warm or you can say hum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2:09:46Z</dcterms:created>
  <dc:creator/>
  <dc:description/>
  <dc:language>en-US</dc:language>
  <cp:lastModifiedBy/>
  <cp:revision>1</cp:revision>
  <dc:subject/>
  <dc:title/>
</cp:coreProperties>
</file>